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2F16-C7FF-4B56-A06F-949E4AF5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4D27-A985-4A37-9836-343B90E2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931D-FE9B-4F07-B445-9368F371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A2BB-E344-46D9-B964-1271C4AE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380C-B861-43EC-97FB-42836C440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7772-893C-4BEB-91A0-ABCB7678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1988-5BD5-41B7-B011-40882B92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D867-04D3-45CF-992A-15C5B3FF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2568-6346-4694-AC96-807570DA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5040-F913-4672-8BBA-3AD8D18C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F3C8-69F4-4B1C-8B2E-9B4E5E4A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B860-9C73-410B-92EE-D29D19C6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F025-58C8-4177-BDBE-48C1871E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919E-EBCB-4E4A-8C3B-397C6BE2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47D6-6D5F-4329-BCE3-2793CB06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18E4-B639-4449-A7A6-087DBFB8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189A-F6C6-4FF4-9756-30FA6170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4242-EAAB-408A-9BB9-18EDD682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6100-6F0E-4967-A2FF-A6B5BBC4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DA71-CE1F-49F2-BCBB-DB55C111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738D-C1CD-48A3-90AA-C73F7CDD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3029-A046-4944-AE15-FA7FF877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1AED-225D-4147-A2BB-7D5BE8DC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BAF1-7668-4C2A-A09C-5BC41E40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9BC1-7808-4866-842C-B9FA0D90E98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6DFB-324F-4BCA-BB86-7F5B3C1A0FB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Eastern Front in World War O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learn about Russia’s involvement in World War O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relate this to pre-existing tensions in Russ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586728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Produced by By Mr. Osborne with some small adaptations by Mr. Wrigh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impact of WW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ffcc"/>
                </a:solidFill>
                <a:uFillTx/>
                <a:latin typeface="Times New Roman"/>
              </a:rPr>
              <a:t>Military Defeats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Russian army was big but poorly equipped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Lost two major battles in 1914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Caused loss of civilian and military morale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Tsar now held responsible for the defeats as he had taken charge of the army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e Battles of Tannenburg and Masurian Lak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learn about Russian defeats in World War O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understand how these effected the opinion of the Russian popul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arly Succes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First Army, led by General Rennenkampf, and the Second Army, led by General Samsonov were told to invade East Prussia (part of Germany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General Samsonov forced the Germans to retre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General Rennenkampf defeated the Germans at the Battle of Gumbinn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 Change In German Tactic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Germans replaced their commander, Prittwitz, with Generals Ludendorff and Hindenbur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decided that attack was the best form of defence, and mounted an offens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e Battle of Tannenbur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By August 22</a:t>
            </a:r>
            <a:r>
              <a:rPr b="0" lang="en-GB" sz="2400" spc="-1" strike="noStrike" baseline="30000">
                <a:solidFill>
                  <a:srgbClr val="ffffcc"/>
                </a:solidFill>
                <a:latin typeface="Times New Roman"/>
              </a:rPr>
              <a:t>nd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 the Germans had stabilised their position and by the 29</a:t>
            </a:r>
            <a:r>
              <a:rPr b="0" lang="en-GB" sz="2400" spc="-1" strike="noStrike" baseline="30000">
                <a:solidFill>
                  <a:srgbClr val="ffffcc"/>
                </a:solidFill>
                <a:latin typeface="Times New Roman"/>
              </a:rPr>
              <a:t>th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 they had surrounded Samsonov’s arm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Germans intercepted a message revealing that Rennenkampf’s army would not be marching to assist Samsonov, and moved in to atta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message also contained Samsonov’s plan of attack, so the Germans could prepare for th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e Battle of Tannenburg (cont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Russians found themselves surrounded, and unable to retreat back to Russia without having to figh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amsonov ordered a breakout, but this was very cost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Of the 150,000 men in the Second Army, only 10,000 managed to escap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However, this helped their allies on the Western Front because the Germans had to move their troop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e Battle of Masurian Lak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Russians had planned a pincer movement to encircle the Germa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Due to Samsonov’s defeat at Tannenburg, the Rennenkampf’s army was in a much weaker posi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nother defeat like Tannenburg would secure the German border, and allow the Germans to send troops back to the Western Fro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Times New Roman"/>
              </a:rPr>
              <a:t>The Battle of Masurian Lakes (cont)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German army attacked on September 7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outnumbering the Russians 3 to 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Russians decided to withdraw, but left two divisions behind to slow the German advance and allow the Russians time to escap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ensuing battle cost the Russians 125,000 men and 150 artillery gu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Why did these battles help to cause the Russian Revolution?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 was the Russian Commander-in-Chief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happened to the patriotic feeling at the start of the war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w did it make the Russian military feel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124080" y="1295280"/>
            <a:ext cx="2819520" cy="2362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pact of WW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33520"/>
            <a:ext cx="29718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Criticism of the Ts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or military command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or political lead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ft the Tsarina in charge of the govern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fused to accept advice from the Du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838080"/>
            <a:ext cx="25905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cc"/>
                </a:solidFill>
                <a:uFillTx/>
                <a:latin typeface="Times New Roman"/>
              </a:rPr>
              <a:t>Criticism of the Tsari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Inexperienced and incompetent rul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Under the influence of Rasput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Unpopular because she was Germ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3935520"/>
            <a:ext cx="28191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Role of Rasput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laimed to be a healer. Disliked by many yet held influence over both the Tsar and Tsari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ssassination in Serb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nk back to when you studied the causes of World War One.  How did the assassination of Arch Duke Franz Ferdinand II increase tension between Russia and Austria-Hungar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conomic problem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ver 15 million men joined the arm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enough workers in factories and fa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used shortages of food and materia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ailway system very po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uld not supply the troo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uld not supply the tow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od prices ro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380880"/>
            <a:ext cx="1752480" cy="14479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pact WW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80880"/>
            <a:ext cx="1828800" cy="14479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pact WW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5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cial discont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od shortages and price rises caused widespread discont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war had seen the population move from the countryside to the c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cities soon became overcrowded and people lived in terrible condi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81680" y="380880"/>
            <a:ext cx="205740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pact WW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80880"/>
            <a:ext cx="1752480" cy="1447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pact WW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vents of the Revolu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eb 22 20,000 steelworkers on strik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eb 23 Women take to the streets to demonstr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eb 25 Now over half of Petrograd is on strik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eb 26 Tsar orders troops to fire on crowds- 40 kill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vents of the Revolu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eb 26 Tsar closes the Dum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eb 27 Soldiers mutiny and establish the Petrograd Soviet with workers and sail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eb 28 Tsar returns to Petrogr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rch 1 Tsar loses support of arm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rch 2 Tsar abdic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rch 3 Grand Duke Michael refuses thro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sults of February revolu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200400"/>
            <a:ext cx="3124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The Provisional Govern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. A 12 member government led by Kerensk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. Planned to rule until elections could be h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3048120"/>
            <a:ext cx="266724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e Petrograd Sovi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council of 2,500 deputie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termined to share power with the Provisional Govern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819520"/>
            <a:ext cx="2362320" cy="32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ual Govern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e Schlieffen Pla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ink back to when you studied the start of World War One.  What was the Schlieffen Plan?  What effect did this have on Russi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e Schlieffen Pla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Germany had drawn up plans for war in Europ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Germans planned to attack France quickly and defeat the French before they could mobilise their troop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is would prevent the Germans having to fight a war on two fro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plan failed because British and French troops were able to slow the German advance, and force them into fighting trench warf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ee the Schlieffen plan animation click here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ussian Mobilis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nk back to when you studied the causes of World War One.  What advantage did Russia have over all the other armies in Europ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ussian Mobilis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Russia had an enormous military by comparison to the other European nations (it had around 1.3 million soldiers, compared to Germany’s 900,000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owever, the Schlieffen plan only gave Russia about 6 weeks to fully mobilise their army to repel a German atta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ny Russian soldiers were sent to fight poorly trained and equipp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Tsar’s Populari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at effect do you think the start of World War One had on Tsar Nicholas II’s popularit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Tsar’s Populari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t the beginning of World War One, despite the problems in Russia, Tsar Nicholas II’s popularity soar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threat of war increased Russians sense of patriotis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sar Nicholas II was seen as the leader of the n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Consequently, Tsar Nicholas II made himself Commander-in-Chief of the Russian arm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February Revolution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17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fall of the Ts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5867280"/>
            <a:ext cx="48006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By Mr Osborne</a:t>
            </a:r>
            <a:br>
              <a:rPr sz="2000"/>
            </a:b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choolHistory.co.uk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lwich</cp:lastModifiedBy>
  <dcterms:modified xsi:type="dcterms:W3CDTF">2007-10-24T02:25:50Z</dcterms:modified>
  <cp:revision>8</cp:revision>
  <dc:subject/>
  <dc:title> The February Revolution </dc:title>
</cp:coreProperties>
</file>